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2C5A-3404-4030-9737-5D6796DDC4B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E013-D4C4-4475-8C1F-2F0E6C16E847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5C57-40AF-48BB-B859-BD6618B3A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C905-09EC-4507-932C-A37EB2E7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C806-4D54-4FD9-ADAA-1762C19DE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7D34-C213-4FAB-B255-571A2E82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B497-C47C-4BF1-BF06-A1F43560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9833-846A-48BE-BBBB-D19C4DD2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5EA2-CF8C-4DB9-9614-DCF158EE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232F-A5DE-4689-A8C4-53860352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7D22-7871-4143-83E5-01537399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44A9-155B-4B3D-8D00-9B9A12AA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769E-F086-4009-B70B-7BDDED37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C9A3-9FA0-4726-89AF-256E67B5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C8C3-CD01-466C-8F74-9CBB66FB1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1500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b4c79d"/>
                </a:solidFill>
                <a:latin typeface="Arial"/>
              </a:rPr>
              <a:t>Evaluar competencias básicas: una propuest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884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Dr. José Moya Ot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Universidad de Las Palmas de Gran Can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3 Rectángulo"/>
          <p:cNvSpPr/>
          <p:nvPr/>
        </p:nvSpPr>
        <p:spPr>
          <a:xfrm>
            <a:off x="68760" y="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Proyecto Atlán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2 CuadroTexto"/>
          <p:cNvSpPr/>
          <p:nvPr/>
        </p:nvSpPr>
        <p:spPr>
          <a:xfrm>
            <a:off x="6721920" y="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Dr. José Moya O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r: una defin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8760" y="1428480"/>
            <a:ext cx="8183520" cy="4330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5000"/>
          </a:bodyPr>
          <a:p>
            <a:pPr marL="251640" indent="-25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" - recoger un conjunto de informaciones suficientemente pertinentes, válidas y fiables y examinar </a:t>
            </a:r>
            <a:r>
              <a:rPr b="0" i="1" lang="es-ES" sz="3200" spc="-1" strike="noStrike">
                <a:solidFill>
                  <a:srgbClr val="c00000"/>
                </a:solidFill>
                <a:latin typeface="Arial"/>
              </a:rPr>
              <a:t>el grado de adecuación entre dicho conjunto de informaciones y un conjunto de criterios adecuados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a los objetivos inicialmente establecidos o gestados sobre la marcha, con vistas a la toma de una decisión. "(De Ketele y Roegiers, 1995: 83)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problema princi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85840" y="1357200"/>
            <a:ext cx="5929200" cy="3929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78000"/>
          </a:bodyPr>
          <a:p>
            <a:pPr marL="206640" indent="-2066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sustitución de una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evaluación informal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basada en impresiones personales) por una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evaluación formal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basada en criteri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6640" indent="-2066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6640" indent="-206640" algn="just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70c0"/>
                </a:solidFill>
                <a:latin typeface="Arial"/>
              </a:rPr>
              <a:t>El docente cree saber con bastante exactitud lo que valen sus alumnos respecto de una materia concreta y si la nota se aparta demasiado de su evaluación intuitiva, el error está en la nota.(Perrenoud, 1996: 23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6640" indent="-206640" algn="just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://www.unige.ch/fapse/SSE/teachers/perrenoud/php_main/php_photo.jpg"/>
          <p:cNvPicPr/>
          <p:nvPr/>
        </p:nvPicPr>
        <p:blipFill>
          <a:blip r:embed="rId1"/>
          <a:stretch/>
        </p:blipFill>
        <p:spPr>
          <a:xfrm>
            <a:off x="6429240" y="1285920"/>
            <a:ext cx="2143440" cy="2000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www.agapea.com/morata/CONSTRUCCION-DEL-EXITO-Y-DEL-FRACASO-ESCOLAR--LA-i0n232440.jpg"/>
          <p:cNvPicPr/>
          <p:nvPr/>
        </p:nvPicPr>
        <p:blipFill>
          <a:blip r:embed="rId2"/>
          <a:stretch/>
        </p:blipFill>
        <p:spPr>
          <a:xfrm>
            <a:off x="6429240" y="3357720"/>
            <a:ext cx="22147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aluación en la LOE: similitudes y difere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5 Rectángulo"/>
          <p:cNvSpPr/>
          <p:nvPr/>
        </p:nvSpPr>
        <p:spPr>
          <a:xfrm>
            <a:off x="324000" y="4221000"/>
            <a:ext cx="807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Estas evaluaciones versarán sobre las competencias básicas del currículo, se realizarán en la enseñanza primaria y secundaria e incluirán, en todo caso, las previstas en los artículos 21 y 29. La Conferencia Sectorial de Educación velará para que estas evaluaciones se realicen con criterios de homogeneidad. (LOE, art. 14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1773360"/>
            <a:ext cx="777708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CIÓN DE DIAGNÓ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2349360"/>
            <a:ext cx="777744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CIÓN FORMATIVA Y SUMATIVA DE APRENDIZA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2560" y="3062160"/>
            <a:ext cx="7777080" cy="36828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n modelo de elaboración compartido: el modelo matr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81835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aluaciones de diagnóstico: anteced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Imagen 2" descr=""/>
          <p:cNvPicPr/>
          <p:nvPr/>
        </p:nvPicPr>
        <p:blipFill>
          <a:blip r:embed="rId1"/>
          <a:stretch/>
        </p:blipFill>
        <p:spPr>
          <a:xfrm>
            <a:off x="642960" y="1285920"/>
            <a:ext cx="7858080" cy="4429080"/>
          </a:xfrm>
          <a:prstGeom prst="rect">
            <a:avLst/>
          </a:prstGeom>
          <a:ln w="0">
            <a:noFill/>
          </a:ln>
        </p:spPr>
      </p:pic>
      <p:sp>
        <p:nvSpPr>
          <p:cNvPr id="65" name="3 CuadroTexto"/>
          <p:cNvSpPr/>
          <p:nvPr/>
        </p:nvSpPr>
        <p:spPr>
          <a:xfrm>
            <a:off x="1672200" y="6072120"/>
            <a:ext cx="599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ejería de Educación y Ciencia. Gobierno de Astu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modelo matri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magen 2" descr=""/>
          <p:cNvPicPr/>
          <p:nvPr/>
        </p:nvPicPr>
        <p:blipFill>
          <a:blip r:embed="rId1"/>
          <a:stretch/>
        </p:blipFill>
        <p:spPr>
          <a:xfrm>
            <a:off x="714240" y="2857680"/>
            <a:ext cx="7715520" cy="2928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26920" y="1413000"/>
            <a:ext cx="7561440" cy="642600"/>
          </a:xfrm>
          <a:prstGeom prst="rect">
            <a:avLst/>
          </a:prstGeom>
          <a:solidFill>
            <a:srgbClr val="ecb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Combinación de criterios que ayudan a decidir el tipo de prueba(s) que permitirán valorar los aprendizajes adquir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 modelo matricial: compone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Imagen 16" descr=""/>
          <p:cNvPicPr/>
          <p:nvPr/>
        </p:nvPicPr>
        <p:blipFill>
          <a:blip r:embed="rId1"/>
          <a:stretch/>
        </p:blipFill>
        <p:spPr>
          <a:xfrm>
            <a:off x="500040" y="1285920"/>
            <a:ext cx="4572000" cy="45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940360" y="1397160"/>
          <a:ext cx="2808360" cy="406368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gniti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x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b2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0:08:57Z</dcterms:created>
  <dc:creator>pilar</dc:creator>
  <dc:description/>
  <dc:language>en-US</dc:language>
  <cp:lastModifiedBy>hp</cp:lastModifiedBy>
  <dcterms:modified xsi:type="dcterms:W3CDTF">2010-03-07T12:23:09Z</dcterms:modified>
  <cp:revision>2</cp:revision>
  <dc:subject/>
  <dc:title>Evaluar competencias básicas: una propuesta</dc:title>
</cp:coreProperties>
</file>